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22AA-6915-403F-BAE3-970B15D1A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75EF-AFE6-4C36-A096-6ACA5AE0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62A7-1613-456B-91CC-BAD0435E7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40BB-5955-4D92-8A9B-378A4D5A3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54F4-700A-4504-A911-2CD9405A8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5B2A-F6D2-48D6-985D-9B3C55F1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366D-4CE8-445F-BA0C-D983D22A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F314-ED34-4EB0-BB10-4EBEC66D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D8FB-FABC-48C4-98CC-32CA375A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C85D-0159-49A0-B431-F7658724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7EAD-CC9F-4D16-9783-345F68A9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10AC-C5E1-42DA-9BDA-970D7F36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931B-653A-42F9-98B2-7B26A2A2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10AC-1059-402D-81E6-B9683DB4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0FA8-C22C-497D-AEA2-3C7AE261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59A1-1257-4BAD-94D0-AB96CE7A9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61115-1B28-4825-9EDF-87E508F06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F1B3-C094-420B-8FAB-D1655997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8CC0-1B63-4CA9-AFB9-0D8B639A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3A98-30EA-4328-9EA4-55924A64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C982-7A2B-4CC2-8360-00F8E473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0DA4-BEC1-4C40-BA4A-BD08F2E9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32C5-D6B5-4B91-8A51-DD79C1AD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5B9F-4A46-4FF1-8806-AFD7B5E7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B7E3-0771-4F8D-B3F7-095DA0955F6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84B2-B17D-4E1C-A888-2A9A7E64328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hoosemyplate.gov/foodgroups/index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appy Wednesday!   10/8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your new seat? Double check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take out your YELLOW sheets that we worked on during class on Monday. I will be coming around to check that you worked on it.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is was homewor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You should have tried!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ssay due TUESDAY, Oct. 11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nt a pass to the Social Studies computer lab on Friday during All School Resource?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e 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your cheat sheet! That’s what it’s fo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ink Now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5867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ose ONE situation and write your refle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HS will now require you to eat a healthy lunch that meets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y Pl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tandar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sconsin will now only give drivers licenses to 16-18 year olds who have  a B average or hig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between the ages of 18 and 24 years will be required to serve ONE year in the United States milita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457200"/>
            <a:ext cx="1905120" cy="1733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324480" y="2514600"/>
            <a:ext cx="1981440" cy="1201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400800" y="4191120"/>
            <a:ext cx="183348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ink Now! Discussion…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mmm. So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might people have difficulty accepting new idea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risks of embracing a new idea? What are the benefi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kinds of new ideas came up in the Renaissance? Think about your Seminar character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ythbusters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you remember about the Renaissan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you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n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ou know about the Scientific Revolution?  The Enlightenm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ll out ½ sheet (orange) on your 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What will we be learning this unit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c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losoph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olutio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lightenmen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d the scientists and philosophers challenge old ideas about power and authori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e start with… Galileo Galilei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 man looking throug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is telescope 40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ears ago is at leas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artially responsi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r your freed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400500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alileo reading and questions – Due FRIDAY 10/7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naissance Essay –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ue TUESDAY 10/11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rite these down in your plann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Medici &amp; Galile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do not need to take notes during the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HOOSE:  You can watch the video OR work on your Galileo homework. No talking or doing other 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2:57:58Z</dcterms:created>
  <dc:creator>MCPASD</dc:creator>
  <dc:description/>
  <dc:language>en-US</dc:language>
  <cp:lastModifiedBy>MCPASD</cp:lastModifiedBy>
  <dcterms:modified xsi:type="dcterms:W3CDTF">2011-10-14T14:38:29Z</dcterms:modified>
  <cp:revision>7</cp:revision>
  <dc:subject/>
  <dc:title>Slide 1</dc:title>
</cp:coreProperties>
</file>